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FDB1-B3CB-4272-A068-4AA4AAC6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336A-A9B4-4900-9219-A308CCCC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3FEF-F971-42D3-A8CF-E435CB7C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0C43-1A06-4BC6-B385-48736143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1010-C84F-4A77-A0DD-04B71492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AB95-1DF9-4594-B64D-A7407DA9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69D4-EC92-4055-9A1A-A3E71685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76EB-CEF7-478E-A7CA-BCCACF0C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95F6-AFCC-4DCD-BE38-7E73CC93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DE4D-85E0-48BF-A544-C30A67F1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96FE-6817-4B11-B528-9784F1DE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8E6D-F97A-41D5-91DB-728D592B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EDD3-F817-400C-9364-19BDAF59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EB17-7DFA-4311-B0DC-9B48D59B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CEB9-6F0F-448A-8B61-F24EF528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F182-DBE0-4F6E-A5F5-B6DE5BF2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1E22-FDA2-42B2-AD3F-DE1D2D9B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C3A1-15F5-4933-8A20-E338A6D8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B9FF-F81A-4DEA-83A9-043FA3C4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2F2C-16A0-477B-977D-6A9C2597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1007-84CB-4D47-A033-D08B7FBD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13E9-A0E2-4A96-BB79-88C4EC12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413C-8910-4709-924D-3000CAB4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4417-73B9-41EE-ACD7-E52F8C3E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7D5C-A268-4DC6-811E-EAE188562CB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BF9E-9992-480D-A335-62A2E3D9AB6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Proyecto TIC en un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entro Educativ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50800" y="2841480"/>
            <a:ext cx="3540240" cy="311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F2B4-B782-42C2-A2FC-0BFC61A42D9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ocument"/>
          <p:cNvSpPr/>
          <p:nvPr/>
        </p:nvSpPr>
        <p:spPr>
          <a:xfrm>
            <a:off x="1190520" y="1666800"/>
            <a:ext cx="4057920" cy="5038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alumnado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36600" y="1731600"/>
            <a:ext cx="401184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Aumentar el interés por aprende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Favorecer el aprendizaje cooperativo y soci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Estimular creatividad e imaginación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664240" y="3857760"/>
            <a:ext cx="28764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6102-1C1C-4270-B403-ABEE4E6446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ocument"/>
          <p:cNvSpPr/>
          <p:nvPr/>
        </p:nvSpPr>
        <p:spPr>
          <a:xfrm>
            <a:off x="1190520" y="1666800"/>
            <a:ext cx="4057920" cy="50198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alumnado I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36600" y="1731960"/>
            <a:ext cx="4011840" cy="40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Enfatizar la vertiente comunicativa de los medios tecnológico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Potenciar la integración de alumnado con necesidades educativas especial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Familiarizarse y concienciarse del nuevo modelo de formación: autónomo y a distancia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664240" y="3857760"/>
            <a:ext cx="28764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E859-F998-4033-BB28-84CCA949E4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profesorado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95480" y="1827360"/>
            <a:ext cx="668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iseñar Unidades Didácticas que incorporen el uso de nuevas tecnología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Adaptar o diseñar multimedias que favorezcan el aprendizaje constructiv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Experimentar modelos de enseñanza alternativos a la instrucción direct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iseñar programas de apoyo al alumnado con necesidades educativ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74B3-95BA-468F-8599-EE91FD4BA3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profesorado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5480" y="1827360"/>
            <a:ext cx="668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spcAft>
                <a:spcPts val="1562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Desarrollar modelos de evaluación sobre la utilización de los medios tecnológic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spcAft>
                <a:spcPts val="1562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Participar en iniciativas de formación presencial y a distancia sobre el uso de las NNTT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spcAft>
                <a:spcPts val="1562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Reconocer el nuevo rol del profesor: diseñador y facilitador de entorn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spcAft>
                <a:spcPts val="156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AB82-F650-4051-98E2-297A2870E9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Líneas de Actu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006560" y="2200320"/>
            <a:ext cx="1674720" cy="1496880"/>
            <a:chOff x="1006560" y="2200320"/>
            <a:chExt cx="1674720" cy="149688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1015920" y="220032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404720" y="2486160"/>
              <a:ext cx="6987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U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06560" y="324648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Uso d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Mater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454560" y="3246480"/>
            <a:ext cx="2266920" cy="1695240"/>
            <a:chOff x="3454560" y="3246480"/>
            <a:chExt cx="2266920" cy="1695240"/>
          </a:xfrm>
        </p:grpSpPr>
        <p:sp>
          <p:nvSpPr>
            <p:cNvPr id="136" name="computr3"/>
            <p:cNvSpPr/>
            <p:nvPr/>
          </p:nvSpPr>
          <p:spPr>
            <a:xfrm>
              <a:off x="3454560" y="3246480"/>
              <a:ext cx="2266920" cy="16952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93640" y="3362400"/>
              <a:ext cx="101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00"/>
                  </a:solidFill>
                  <a:latin typeface="Verdana"/>
                </a:rPr>
                <a:t>Proyec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69680" y="3673440"/>
              <a:ext cx="66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TI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747880" y="1600200"/>
            <a:ext cx="1674720" cy="1496880"/>
            <a:chOff x="2747880" y="1600200"/>
            <a:chExt cx="1674720" cy="149688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2757240" y="160020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162960" y="1886040"/>
              <a:ext cx="6667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V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47880" y="264636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Valoración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Mater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184720" y="1619280"/>
            <a:ext cx="1674720" cy="1496880"/>
            <a:chOff x="5184720" y="1619280"/>
            <a:chExt cx="1674720" cy="1496880"/>
          </a:xfrm>
        </p:grpSpPr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5194080" y="161928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625360" y="1905120"/>
              <a:ext cx="6166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A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4720" y="266544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00"/>
                  </a:solidFill>
                  <a:latin typeface="Trebuchet MS"/>
                </a:rPr>
                <a:t>Alfabetiz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00"/>
                  </a:solidFill>
                  <a:latin typeface="Trebuchet MS"/>
                </a:rPr>
                <a:t>Digi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840360" y="2496960"/>
            <a:ext cx="1674720" cy="1496880"/>
            <a:chOff x="6840360" y="2496960"/>
            <a:chExt cx="1674720" cy="1496880"/>
          </a:xfrm>
        </p:grpSpPr>
        <p:pic>
          <p:nvPicPr>
            <p:cNvPr id="148" name="" descr=""/>
            <p:cNvPicPr/>
            <p:nvPr/>
          </p:nvPicPr>
          <p:blipFill>
            <a:blip r:embed="rId4"/>
            <a:stretch/>
          </p:blipFill>
          <p:spPr>
            <a:xfrm>
              <a:off x="6849720" y="24969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7287480" y="2782800"/>
              <a:ext cx="6044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D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40360" y="35431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Aten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Diversida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840360" y="4370400"/>
            <a:ext cx="1674720" cy="1496880"/>
            <a:chOff x="6840360" y="4370400"/>
            <a:chExt cx="1674720" cy="1496880"/>
          </a:xfrm>
        </p:grpSpPr>
        <p:pic>
          <p:nvPicPr>
            <p:cNvPr id="152" name="" descr=""/>
            <p:cNvPicPr/>
            <p:nvPr/>
          </p:nvPicPr>
          <p:blipFill>
            <a:blip r:embed="rId5"/>
            <a:stretch/>
          </p:blipFill>
          <p:spPr>
            <a:xfrm>
              <a:off x="6849720" y="437040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7312680" y="4656240"/>
              <a:ext cx="5554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B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40360" y="541656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Bibliotec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Escola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970520" y="5119560"/>
            <a:ext cx="1674720" cy="1496880"/>
            <a:chOff x="4970520" y="5119560"/>
            <a:chExt cx="1674720" cy="1496880"/>
          </a:xfrm>
        </p:grpSpPr>
        <p:pic>
          <p:nvPicPr>
            <p:cNvPr id="156" name="" descr=""/>
            <p:cNvPicPr/>
            <p:nvPr/>
          </p:nvPicPr>
          <p:blipFill>
            <a:blip r:embed="rId6"/>
            <a:stretch/>
          </p:blipFill>
          <p:spPr>
            <a:xfrm>
              <a:off x="4979880" y="51195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5414400" y="5405400"/>
              <a:ext cx="6120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G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70520" y="61657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Gest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Admin. y Tut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589120" y="5281560"/>
            <a:ext cx="1674720" cy="1496880"/>
            <a:chOff x="2589120" y="5281560"/>
            <a:chExt cx="1674720" cy="1496880"/>
          </a:xfrm>
        </p:grpSpPr>
        <p:pic>
          <p:nvPicPr>
            <p:cNvPr id="160" name="" descr=""/>
            <p:cNvPicPr/>
            <p:nvPr/>
          </p:nvPicPr>
          <p:blipFill>
            <a:blip r:embed="rId7"/>
            <a:stretch/>
          </p:blipFill>
          <p:spPr>
            <a:xfrm>
              <a:off x="2598480" y="52815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3069720" y="5567400"/>
              <a:ext cx="5403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F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89120" y="63277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Form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Profesorad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838080" y="4071960"/>
            <a:ext cx="1674720" cy="1496880"/>
            <a:chOff x="838080" y="4071960"/>
            <a:chExt cx="1674720" cy="1496880"/>
          </a:xfrm>
        </p:grpSpPr>
        <p:pic>
          <p:nvPicPr>
            <p:cNvPr id="164" name="" descr=""/>
            <p:cNvPicPr/>
            <p:nvPr/>
          </p:nvPicPr>
          <p:blipFill>
            <a:blip r:embed="rId8"/>
            <a:stretch/>
          </p:blipFill>
          <p:spPr>
            <a:xfrm>
              <a:off x="847440" y="40719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1240920" y="4357800"/>
              <a:ext cx="6944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D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8080" y="51181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Diseñ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Mater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82AA-0A8A-4F12-8CBC-14A13FA8F3FD}" type="slidenum">
              <a:t>14</a:t>
            </a:fld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fabetización Digital: 1º Cicl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Teclad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Entorno Windows: Programas y Ventana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Word: edición básica de un documento: título, imagen y text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Navegación por Internet: websites conocida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Navegación por Mi Primera Encarta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Dibujar con el Paint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La cámara digital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La grabadora de sonid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Envío y Recepción de Email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058160" y="0"/>
            <a:ext cx="1825560" cy="1905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AD3E-87FE-4BB2-80AD-9BCE36A72B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fabetización Digital: 2º Cicl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Teclado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ntorno Windows: Archivos y Disc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Word: edición de un documento: formato de imagen y text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Navegación por Internet:herramientas escolares y buscador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Herramientas escolares de Encarta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Dibujar con el Paint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La cámara digital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La grabadora de sonid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mails con adjunt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scaneado de imágenes propia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058160" y="0"/>
            <a:ext cx="1825560" cy="1905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68F7-7114-47F5-B9AD-4284D8297B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Otras Líneas de Actu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Biblioteca Escolar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Administrativa y Tutoria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Valoración de Material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Diseño de Material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DD25-3D29-4623-8FBD-E09AF53FD0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iblioteca Escola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Biblioteca -&gt; Mediateca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catálogo: Abies 2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Consulta web del catálogo: Bonsai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Formación de usuario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Proyecto interdisciplinar por hito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7f7f7f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8440" y="5210280"/>
            <a:ext cx="2033640" cy="16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5288-0516-487A-BB52-C0A9DF7687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Gestión Administrativa y Tutor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Plantillas documentación oficial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escolar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económica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Noticias web para familia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tutorial: listas y evaluacione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D071-A944-492B-AEC8-24AF50254C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Índi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ontext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bjetivo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Líneas de Actu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rganiz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La Web del Centr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rmación del Profesorad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Proyect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erspectivas del futur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DF7B-617F-439D-AD77-33FD8D16E3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aloración de Materia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quipo de profesor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Criterios de valoración 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1) Profesor Marc Peré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técnicos: interacción, fiabilidad, navegación, etc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estéticos: entorno, calidad …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de utilidad didáctica: estrategias, evaluación, continuidad …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pedagógicos: refuerzos, motivación, buscadores, etc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laboración de una guía de explotación didáctica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Presentación del material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Revisión del Plan Anual de Uso de Material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B7E8-B817-402A-89E4-7E0EA7419E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Diseño de Materiale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69800" y="2548080"/>
            <a:ext cx="73134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Necesidad del diseño: escasez de iniciativas editorial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Entornos de publicación: Aula - Red local – Web del centro – Aula virtual - Otr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Herramientas: Word – FrontPage - PowerPoint – Autor NEA - Hot Potatoes – JClic – Flash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43800" y="530280"/>
            <a:ext cx="2039760" cy="201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A65F-56F0-4AF2-AE98-325561D326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Organiz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Horarios y espacio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rganigram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l Coordinador TIC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41FB-12EF-4495-8B5C-401063EA4C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Organización: Horarios y espaci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90840" y="1827360"/>
            <a:ext cx="709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M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so de Materiales I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semanal. Cada grupo asiste con su tutor. (12 horas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M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so de Materiales II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quincenal. Cada grupo asiste con profesor especialista (Inglés-Música-Llíngua-Plástica) (20 horas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AD Alfabetización Digital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semanal. Cada grupo asiste con un profesor responsable de Ciclo (12 horas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BE Biblioteca Escolar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semanal. Cada grupo asiste con su tutor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AD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Atención a la Diversidad 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(apoyos): resto horario lectivo disponible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FP Formación profesorado. 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Horario de dedicación exclusiva (2 horas semanales: individual y grupo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36440" y="4495680"/>
            <a:ext cx="1594080" cy="216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0C18-20FF-4B9C-BF33-4058ECCD59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Organización: Organigram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410080" y="2540160"/>
            <a:ext cx="3601440" cy="1402560"/>
            <a:chOff x="5410080" y="2540160"/>
            <a:chExt cx="3601440" cy="1402560"/>
          </a:xfrm>
        </p:grpSpPr>
        <p:sp>
          <p:nvSpPr>
            <p:cNvPr id="194" name=""/>
            <p:cNvSpPr/>
            <p:nvPr/>
          </p:nvSpPr>
          <p:spPr>
            <a:xfrm>
              <a:off x="5410080" y="2540160"/>
              <a:ext cx="1308240" cy="1226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52160" y="3422520"/>
              <a:ext cx="225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DV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Profesores de Apoy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, Logopedia y P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010200" y="1724040"/>
            <a:ext cx="2193840" cy="1225440"/>
            <a:chOff x="6010200" y="1724040"/>
            <a:chExt cx="2193840" cy="1225440"/>
          </a:xfrm>
        </p:grpSpPr>
        <p:sp>
          <p:nvSpPr>
            <p:cNvPr id="197" name=""/>
            <p:cNvSpPr/>
            <p:nvPr/>
          </p:nvSpPr>
          <p:spPr>
            <a:xfrm>
              <a:off x="6461280" y="2016000"/>
              <a:ext cx="1168200" cy="9334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10200" y="1724040"/>
              <a:ext cx="219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GA: 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utores y Secretarí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016640" y="2062080"/>
            <a:ext cx="1717200" cy="1704960"/>
            <a:chOff x="1016640" y="2062080"/>
            <a:chExt cx="1717200" cy="1704960"/>
          </a:xfrm>
        </p:grpSpPr>
        <p:sp>
          <p:nvSpPr>
            <p:cNvPr id="200" name=""/>
            <p:cNvSpPr/>
            <p:nvPr/>
          </p:nvSpPr>
          <p:spPr>
            <a:xfrm>
              <a:off x="1380960" y="2579760"/>
              <a:ext cx="1352880" cy="11872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16640" y="20620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BE: 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Responsab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de la Bibliotec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783000" y="3173400"/>
            <a:ext cx="2939760" cy="1347840"/>
            <a:chOff x="783000" y="3173400"/>
            <a:chExt cx="2939760" cy="1347840"/>
          </a:xfrm>
        </p:grpSpPr>
        <p:sp>
          <p:nvSpPr>
            <p:cNvPr id="203" name=""/>
            <p:cNvSpPr/>
            <p:nvPr/>
          </p:nvSpPr>
          <p:spPr>
            <a:xfrm>
              <a:off x="2185920" y="3173400"/>
              <a:ext cx="1536840" cy="1347840"/>
            </a:xfrm>
            <a:prstGeom prst="pie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3000" y="3848040"/>
              <a:ext cx="149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DM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Grupos d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profesor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157040" y="4297320"/>
            <a:ext cx="2229120" cy="2050200"/>
            <a:chOff x="1157040" y="4297320"/>
            <a:chExt cx="2229120" cy="2050200"/>
          </a:xfrm>
        </p:grpSpPr>
        <p:sp>
          <p:nvSpPr>
            <p:cNvPr id="206" name=""/>
            <p:cNvSpPr/>
            <p:nvPr/>
          </p:nvSpPr>
          <p:spPr>
            <a:xfrm>
              <a:off x="1228680" y="4297320"/>
              <a:ext cx="1893960" cy="1692360"/>
            </a:xfrm>
            <a:prstGeom prst="pi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57040" y="6040440"/>
              <a:ext cx="22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FP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Todos los profesor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012480" y="2070000"/>
            <a:ext cx="2462040" cy="1758960"/>
            <a:chOff x="3012480" y="2070000"/>
            <a:chExt cx="2462040" cy="1758960"/>
          </a:xfrm>
        </p:grpSpPr>
        <p:sp>
          <p:nvSpPr>
            <p:cNvPr id="209" name=""/>
            <p:cNvSpPr/>
            <p:nvPr/>
          </p:nvSpPr>
          <p:spPr>
            <a:xfrm>
              <a:off x="3436920" y="2481120"/>
              <a:ext cx="1373040" cy="1347840"/>
            </a:xfrm>
            <a:prstGeom prst="pi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12480" y="2070000"/>
              <a:ext cx="246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VM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Coordinador Ciclo y u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profesor por especialida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191120" y="3259080"/>
            <a:ext cx="4073760" cy="1347840"/>
            <a:chOff x="4191120" y="3259080"/>
            <a:chExt cx="4073760" cy="1347840"/>
          </a:xfrm>
        </p:grpSpPr>
        <p:sp>
          <p:nvSpPr>
            <p:cNvPr id="212" name=""/>
            <p:cNvSpPr/>
            <p:nvPr/>
          </p:nvSpPr>
          <p:spPr>
            <a:xfrm>
              <a:off x="4191120" y="3259080"/>
              <a:ext cx="1536480" cy="1347840"/>
            </a:xfrm>
            <a:prstGeom prst="pi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57560" y="3968640"/>
              <a:ext cx="2407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UM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Tutores, Especialista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y Apoyos a Grup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505400" y="4297320"/>
            <a:ext cx="2553120" cy="1999440"/>
            <a:chOff x="4505400" y="4297320"/>
            <a:chExt cx="2553120" cy="1999440"/>
          </a:xfrm>
        </p:grpSpPr>
        <p:sp>
          <p:nvSpPr>
            <p:cNvPr id="215" name=""/>
            <p:cNvSpPr/>
            <p:nvPr/>
          </p:nvSpPr>
          <p:spPr>
            <a:xfrm>
              <a:off x="4505400" y="4297320"/>
              <a:ext cx="1666800" cy="1584360"/>
            </a:xfrm>
            <a:prstGeom prst="pi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2640" y="5989680"/>
              <a:ext cx="231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AD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Un profesor por Cicl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9775-4953-4104-ABF1-4FEABF03F9E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El Coordinador TIC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Sus funciones más destacadas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Apoyar al profesorado en la integración de las TICs en la docencia diaria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Organizar y gestionar los recursos asegurando su correcto funcionamiento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Colaborar en la implantación de los servicios de la Intranet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Dinamizar los proyectos del centro relacionados con NNTT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Gestionar el presupuesto específico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Coordinar la comunicación del centro con las instituciones en temas TIC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018040" y="2141640"/>
            <a:ext cx="3665520" cy="28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DA29-79B7-46F3-AA4E-F20E06ED3F1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La Web del Centr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tu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rincipio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C214-2BF6-496D-9319-70516B62756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web del centro I: Situacion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Recurso importante en el proyecto TIC del centr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retende los mismos objetivos que el plan TIC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Debe superar el enfoque inicial de “escaparate”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ortal de recursos de continua referencia del alumnado: de lo conocido a lo desconocid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640640" y="38160"/>
            <a:ext cx="1455840" cy="14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6EC3-BAE9-4BDD-902A-9818C3ED150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La web del centro II: Principi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Usabilidad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entorno intuitivo, amigable y adaptado al alumnad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Actividad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participación del alumnad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Enfoque educativo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fomentar un uso más racional de los medios tecnológic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Información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comunicar los detalles del proyecto educativo al resto de la comunidad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Portal de recursos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integrar múltiples recursos para convertirlo en sitio de referencia permanente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Animación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facilitador de experiencias didácticas de innovación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640640" y="38160"/>
            <a:ext cx="1455840" cy="14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B8A2-17C7-4E8A-BD6E-180079ED2AC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rmación del profesorado: Modalidad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400120" y="1827360"/>
            <a:ext cx="628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actor clave de la integración TIC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minario de formación en centr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Bajo la dirección del coordinador y con el apoyo del Centro de Profesor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Sesión quincenal de 2 hora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Alterna formación impartida por el coordinador con trabajo individual, de pequeño y de gran grup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rmación presencial: cursos del Centro de Profesor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rmación a distancia: Consejería y CNICE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85680" y="3591000"/>
            <a:ext cx="2209680" cy="308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617D-E635-4DBD-9AF3-A86F8E3932D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tuación actual de las TIC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Principios de actu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Contexto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35D8-BDB1-4F14-A05F-C51B684553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valuación del proyec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alumno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profesor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proceso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51D2-0244-4830-A10C-022D066739E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alumno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facilita la creatividad y la imagin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favorece la comunicación del alumnado con su entorn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posibilita la integración social de alumnos con nee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potencia el uso de nuevos entornos de aprendizaje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209000" y="5419800"/>
            <a:ext cx="1352520" cy="13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5549-ED8F-43B4-8A60-DEF701427E2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Evaluación del alumno I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la integración TIC supone construcción del conocimient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mejoran las habilidades de pensamiento crític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adquieren valores relacionados con el uso de las TIC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estimula el interés por aprender en alumnos con nee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fomenta el trabajo cooperativ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209000" y="5419800"/>
            <a:ext cx="1352520" cy="13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BDF7-8174-4ED5-8B2A-58D4FACD53A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profesor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39880" y="1827000"/>
            <a:ext cx="694368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han incorporado TICs como instrumentos cognitivos en el desarrollo de Unidades Didáctica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el aprovechamiento de las TICs es el más adecuad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ha participado activamente en la valoración, adaptación y diseño de recurs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han experimentado modelos de enseñanza alternativos a la inst.directa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C0B0-9B79-437C-9CA4-77719B25D07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profesor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39880" y="1827360"/>
            <a:ext cx="69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ha puesto en práctica algún modelo de evalu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la formación recibida es de utilidad en la docencia diaria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existe sensibilidad hacia el cambio de rol del profesor que supone la integración de las TIC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75AB-AD89-49B1-85CD-F820568A5D8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proces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819080" y="1827360"/>
            <a:ext cx="686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los recursos son adecuados y se utilizan de forma eficaz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la organización de recursos es idónea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existe compromiso de todos los participantes: alumnado, profesorado, familias, etc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observa especial incidencia en la práctica docente y familiar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el trabajo del coordinador de TICs es adecuad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200160" y="5181480"/>
            <a:ext cx="1307880" cy="1227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89160" y="5573880"/>
            <a:ext cx="1054080" cy="988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0892-BC0F-4053-847D-0D83CAFA1CD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tuación Actual de las TICs 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14280" y="2189160"/>
            <a:ext cx="45594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Aprendizaje sobre/con la tecnología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Programas basados en la filosofía del refuerzo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El éxito de una aplicación también depende del contexto de uso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1720" y="3922560"/>
            <a:ext cx="2818080" cy="2722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156120" y="1482840"/>
            <a:ext cx="5778360" cy="3375000"/>
          </a:xfrm>
          <a:prstGeom prst="cloudCallout">
            <a:avLst>
              <a:gd name="adj1" fmla="val -40740"/>
              <a:gd name="adj2" fmla="val 69990"/>
            </a:avLst>
          </a:prstGeom>
          <a:noFill/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9F1A-163F-4DB1-886E-512D44B1C9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tuación Actual de las TICs I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2027160"/>
            <a:ext cx="488808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a tecnología no garantiza motiva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o del ordenador como un libr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gramas para reforzar conocimientos o bien para mejorar la productivida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flicto de competencias entre el ser humano y la máquin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rot="20217600">
            <a:off x="6362640" y="4673160"/>
            <a:ext cx="3149640" cy="3043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9960" y="1444680"/>
            <a:ext cx="6458040" cy="4079880"/>
          </a:xfrm>
          <a:prstGeom prst="cloudCallout">
            <a:avLst>
              <a:gd name="adj1" fmla="val 45106"/>
              <a:gd name="adj2" fmla="val 39532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6D6A-449D-4B70-B13D-953B25B6EA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Principios 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0080" y="1884240"/>
            <a:ext cx="645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mentar creación frente a reproduc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vorecer el aprendizaje interactivo, constructivo, autorregulado y tecnológic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alorar el medio tecnológico por su valor como instrumento cognitiv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fatizar la construcción del conocimient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imular el desarrollo de habilidades del pensamient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945480" y="1590840"/>
            <a:ext cx="201420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6FAB-106E-4701-A00C-1C62F8E7D1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Principios I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171960" y="1827360"/>
            <a:ext cx="551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112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Sensibilizarse con la educación en valores relacionada con el uso de las tecnología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Enfatizar la vertiente cooperativa del aprendizaje: alumnos, profes, padres, etc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Desarrollar habilidades instrumentales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lternar modelos de enseñanza y aprendizaje variados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Utilizar un recurso tecnológico sólo si merece la pena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92200" y="3514680"/>
            <a:ext cx="201456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F3A7-BE63-4E4C-9145-3EF96AA8D1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bjetivos del Alumnado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bjetivos del Profesorado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Objetiv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9955-5809-45CE-A508-C2D70E06A1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ocument"/>
          <p:cNvSpPr/>
          <p:nvPr/>
        </p:nvSpPr>
        <p:spPr>
          <a:xfrm>
            <a:off x="1190520" y="1666800"/>
            <a:ext cx="4057920" cy="5038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alumnado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36600" y="1703160"/>
            <a:ext cx="401184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Construir aprendizaje del currículo usando los medios tecnológico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Mejorar habilidades del pensamiento adquiriendo estrategias inteligent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Desarrollar el sentido crític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Adquirir una adecuada formación en valor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664240" y="3857760"/>
            <a:ext cx="28764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2AD6-8904-4416-881B-3AA70BC264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0:41:53Z</dcterms:created>
  <dc:creator> fpp</dc:creator>
  <dc:description/>
  <dc:language>en-US</dc:language>
  <cp:lastModifiedBy>fpp</cp:lastModifiedBy>
  <dcterms:modified xsi:type="dcterms:W3CDTF">2007-05-05T22:15:31Z</dcterms:modified>
  <cp:revision>95</cp:revision>
  <dc:subject/>
  <dc:title>Proyecto de TICs en un  Centro de Educación Primar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Path">
    <vt:lpwstr>Proyecto de TICs en un</vt:lpwstr>
  </property>
  <property fmtid="{D5CDD505-2E9C-101B-9397-08002B2CF9AE}" pid="3" name="LastUsedName">
    <vt:lpwstr>Proyecto de TICs en un</vt:lpwstr>
  </property>
</Properties>
</file>